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A41-0CD6-4203-9C79-252A570E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2ADB-CB6E-4046-990B-E75FB67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EF6-3F5C-4BBA-BEC0-9418822D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6C9-1311-45EC-979C-DD8CDF68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7E6F-F19B-4DED-9ABA-AFF53839F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0C15-7ADC-46DC-83E5-C61F77B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20CF-187C-49DB-B93A-1A5C0BD0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1D95-9166-4D08-B203-26D0E3A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D76B-709C-4CCE-B329-8BA78145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FF9-8892-4DA7-A653-057F6399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37C0-D15C-4DD8-89CB-16BC6A9C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151-4FBF-4111-BB3B-5EAC7CC3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29A0-F18D-4415-B488-74A444B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BCD0-6E16-4825-90FB-44D1238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E1E-17C5-435C-9317-49E93723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DAB-E2F4-4DCC-BCA8-9A8BB816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4AD8-4615-47FC-B0C4-915FECE1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55C6-4FAC-4251-B23A-A3D24642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3975-7195-425A-9754-9EB2F5E2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9F7B-73F1-474A-8D73-C0701A5E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63B97-8648-4E54-99E0-9F9E7CBE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63AC5-C9E2-416C-861F-D3262CE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F9E-6DCA-4D3E-8478-5AE19E2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F52B6-9035-4E6E-9D6D-63B2544A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AC7F-A75A-4DED-B754-B815448C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7E65-0D3D-42FA-9F6E-D8B1010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5DB1-19C7-44D3-9CFD-17D05F2C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70FE2-7CCC-4276-A3D7-3FCCB4B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0DB19-1B11-4546-BFBF-29AB899E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A054-9266-4EC3-8C41-4C404576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5643F-C9C5-47AD-9E01-6A5D30B5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CDC67-8F99-4AE7-AD25-32161A8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1F141-9E59-4279-9FF0-9B8F9B29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C1E-0FD8-4F89-BE0F-9DAF37D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904E6-9035-45D6-9B97-9EAC1B2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C25F-5D3D-4DD2-BD2D-D245C01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1E00-3277-4828-A163-1836503A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2767D-5722-4542-89B9-45977C4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E9D8-BD3E-4FC5-A8C2-8BE450B4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BB29-AEB6-4FCD-AE77-431B3D4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2A68C-B4BE-486A-9AE6-B1F638F7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FFC6-8A63-4527-AB8B-C8101DD4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0FF8-DABC-41DD-A42D-009820A5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78194-7081-4950-A878-3B8BB679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AF4-32E7-4A72-9D3E-BCBB5CE7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D22C8-0050-4894-BEA3-101E86A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8A84-87CB-4039-BEC7-9A07177F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97AC4-98C0-40F3-BDA5-843A63C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BF54E-0579-4977-98DA-EF6EA95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2517-D108-4100-A8DA-B2915F06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CD66D-8C8D-4A21-9B55-1614C7C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19800-9DB3-4791-9EAA-B88D6F4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58F87-1862-4140-BF51-2D166D7A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6746-FDCA-4473-9F2B-DE39221C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33E1A-FF32-4AF6-99CC-E672D93C0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A3A-6747-4225-A884-AE35A9E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9358-7133-4D20-AA55-57AFB83F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C3F45-8C12-4692-BC8F-3A8C4B91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D8D19-94E2-4BE4-BB15-4AA5BA9D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5041-287E-4075-8040-9280088B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67B52-A0C2-4EEC-A4AE-0416EA9E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CD1B1-C440-4737-91EC-AF990408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0778-58E6-4AED-BFBC-A68EC088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8976-48BC-4E21-A7C9-BA6C9B19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34115-E386-4A03-A649-F933CCF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7C1DC-75BA-476E-AEEF-A00F6950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295-D2C7-4CC6-A9B0-4B3231E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DC92-98A1-4551-AF9C-BE8843F1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8764-9606-4CF6-8B0A-559B5C21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FBFA3-155E-41F1-B844-119FF703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6B85-929F-42AF-9C16-6DA44E33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6C9A-65C1-4A4B-B874-F41959E5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895B3-090B-4EDB-91B0-99F57183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AC61A-A37E-4D68-BC56-8FEA8505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92E21-5D46-42B0-B0E8-C1ED4811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D87B-31CA-489F-BCFB-B1BE701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3DEE7-4A86-4F74-A62F-321037D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FE3-87F7-41CE-975C-EC84C40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AAE8-89D1-404C-81B8-2172E0D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D5D23-5C6E-44FC-A5A1-A249245E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08766-F57B-4A71-9B6F-6E9ECFDA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E583-DF5E-4EAA-B856-9AD98413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7CE6A-98B7-464C-B78E-4AA0F1BC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37A-0D33-4661-B528-8E08FE1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626B-BAAC-480A-8F8F-359CDAAC3492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109-1549-4F3C-BEC2-BCA401C54EAE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CFAE-94F3-463B-9D68-2EAFD15B93C4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B98A-EF79-4523-8373-B5600303F897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D52D-2564-4115-BF73-EE46C85D9302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EFD1-06B5-4FEA-9268-8704E904D14B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E638-4029-479C-8AA8-A441803403A8}" type="slidenum">
              <a:rPr b="0" lang="pl-PL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Symetria względem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punktu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81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Symetria środkow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(względem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cc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) jest to przekształcenie przyporządkowujące każdemu punktowi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 punkt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A’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niego symetryczny względem ustalonego punktu 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ole tekstowe 2"/>
          <p:cNvSpPr/>
          <p:nvPr/>
        </p:nvSpPr>
        <p:spPr>
          <a:xfrm>
            <a:off x="971640" y="3284640"/>
            <a:ext cx="817236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2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czworokąt i skonstruuj figurę symetryczną do niego w symetrii względ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dnego z wierzchoł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a jednego z bokó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u leżącego poza czworoką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3"/>
          <p:cNvSpPr/>
          <p:nvPr/>
        </p:nvSpPr>
        <p:spPr>
          <a:xfrm>
            <a:off x="971640" y="333360"/>
            <a:ext cx="817236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Narysuj dowolny odcinek i punkt S. Skonstruuj odcinek symetryczny do danego odcinka w symetrii względem punktu S. Rozważ różne położenia punktu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1"/>
          <p:cNvSpPr/>
          <p:nvPr/>
        </p:nvSpPr>
        <p:spPr>
          <a:xfrm>
            <a:off x="1042920" y="115920"/>
            <a:ext cx="79218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3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a figura jest symetryczna do figury A względem punktu 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C:\Users\Home\AppData\Local\Microsoft\Windows\Temporary Internet Files\Content.IE5\NU2RHS0H\MC900413608[1].wmf"/>
          <p:cNvPicPr/>
          <p:nvPr/>
        </p:nvPicPr>
        <p:blipFill>
          <a:blip r:embed="rId1"/>
          <a:stretch/>
        </p:blipFill>
        <p:spPr>
          <a:xfrm>
            <a:off x="2556000" y="2276640"/>
            <a:ext cx="1355760" cy="150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:\Users\Home\AppData\Local\Microsoft\Windows\Temporary Internet Files\Content.IE5\NU2RHS0H\MC900413608[1].wmf"/>
          <p:cNvPicPr/>
          <p:nvPr/>
        </p:nvPicPr>
        <p:blipFill>
          <a:blip r:embed="rId2"/>
          <a:stretch/>
        </p:blipFill>
        <p:spPr>
          <a:xfrm rot="4597200">
            <a:off x="2333520" y="4447800"/>
            <a:ext cx="1355760" cy="1501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Home\AppData\Local\Microsoft\Windows\Temporary Internet Files\Content.IE5\NU2RHS0H\MC900413608[1].wmf"/>
          <p:cNvPicPr/>
          <p:nvPr/>
        </p:nvPicPr>
        <p:blipFill>
          <a:blip r:embed="rId3"/>
          <a:stretch/>
        </p:blipFill>
        <p:spPr>
          <a:xfrm rot="10800000">
            <a:off x="4870440" y="471780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Home\AppData\Local\Microsoft\Windows\Temporary Internet Files\Content.IE5\NU2RHS0H\MC900413608[1].wmf"/>
          <p:cNvPicPr/>
          <p:nvPr/>
        </p:nvPicPr>
        <p:blipFill>
          <a:blip r:embed="rId4"/>
          <a:stretch/>
        </p:blipFill>
        <p:spPr>
          <a:xfrm rot="4171800">
            <a:off x="4905720" y="2351880"/>
            <a:ext cx="1357200" cy="1501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Users\Home\AppData\Local\Microsoft\Windows\Temporary Internet Files\Content.IE5\NU2RHS0H\MC900413608[1].wmf"/>
          <p:cNvPicPr/>
          <p:nvPr/>
        </p:nvPicPr>
        <p:blipFill>
          <a:blip r:embed="rId5"/>
          <a:stretch/>
        </p:blipFill>
        <p:spPr>
          <a:xfrm rot="10800000">
            <a:off x="6561000" y="3605040"/>
            <a:ext cx="1355760" cy="1501920"/>
          </a:xfrm>
          <a:prstGeom prst="rect">
            <a:avLst/>
          </a:prstGeom>
          <a:ln w="0">
            <a:noFill/>
          </a:ln>
        </p:spPr>
      </p:pic>
      <p:sp>
        <p:nvSpPr>
          <p:cNvPr id="383" name="Elipsa 23"/>
          <p:cNvSpPr/>
          <p:nvPr/>
        </p:nvSpPr>
        <p:spPr>
          <a:xfrm flipH="1">
            <a:off x="4355280" y="422100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ole tekstowe 24"/>
          <p:cNvSpPr/>
          <p:nvPr/>
        </p:nvSpPr>
        <p:spPr>
          <a:xfrm>
            <a:off x="2413800" y="3068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ole tekstowe 25"/>
          <p:cNvSpPr/>
          <p:nvPr/>
        </p:nvSpPr>
        <p:spPr>
          <a:xfrm>
            <a:off x="4430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ole tekstowe 29"/>
          <p:cNvSpPr/>
          <p:nvPr/>
        </p:nvSpPr>
        <p:spPr>
          <a:xfrm>
            <a:off x="2990160" y="595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ole tekstowe 30"/>
          <p:cNvSpPr/>
          <p:nvPr/>
        </p:nvSpPr>
        <p:spPr>
          <a:xfrm>
            <a:off x="781560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ole tekstowe 31"/>
          <p:cNvSpPr/>
          <p:nvPr/>
        </p:nvSpPr>
        <p:spPr>
          <a:xfrm>
            <a:off x="6087600" y="5084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ole tekstowe 32"/>
          <p:cNvSpPr/>
          <p:nvPr/>
        </p:nvSpPr>
        <p:spPr>
          <a:xfrm>
            <a:off x="615888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rostokąt 1"/>
          <p:cNvSpPr/>
          <p:nvPr/>
        </p:nvSpPr>
        <p:spPr>
          <a:xfrm>
            <a:off x="971640" y="549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buClr>
                <a:srgbClr val="000000"/>
              </a:buClr>
              <a:buFont typeface="Book Antiqua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zględem którego punktu figury B i B’ są symetrycz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C:\Users\Home\AppData\Local\Microsoft\Windows\Temporary Internet Files\Content.IE5\G0S2MCRD\MC900030629[1].wmf"/>
          <p:cNvPicPr/>
          <p:nvPr/>
        </p:nvPicPr>
        <p:blipFill>
          <a:blip r:embed="rId1"/>
          <a:stretch/>
        </p:blipFill>
        <p:spPr>
          <a:xfrm>
            <a:off x="1908000" y="1844640"/>
            <a:ext cx="1473480" cy="1771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Users\Home\AppData\Local\Microsoft\Windows\Temporary Internet Files\Content.IE5\G0S2MCRD\MC900030629[1].wmf"/>
          <p:cNvPicPr/>
          <p:nvPr/>
        </p:nvPicPr>
        <p:blipFill>
          <a:blip r:embed="rId2"/>
          <a:stretch/>
        </p:blipFill>
        <p:spPr>
          <a:xfrm rot="10800000">
            <a:off x="6227280" y="3500280"/>
            <a:ext cx="1474920" cy="1773360"/>
          </a:xfrm>
          <a:prstGeom prst="rect">
            <a:avLst/>
          </a:prstGeom>
          <a:ln w="0">
            <a:noFill/>
          </a:ln>
        </p:spPr>
      </p:pic>
      <p:sp>
        <p:nvSpPr>
          <p:cNvPr id="393" name="pole tekstowe 4"/>
          <p:cNvSpPr/>
          <p:nvPr/>
        </p:nvSpPr>
        <p:spPr>
          <a:xfrm>
            <a:off x="1838520" y="26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ole tekstowe 5"/>
          <p:cNvSpPr/>
          <p:nvPr/>
        </p:nvSpPr>
        <p:spPr>
          <a:xfrm>
            <a:off x="759960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lipsa 6"/>
          <p:cNvSpPr/>
          <p:nvPr/>
        </p:nvSpPr>
        <p:spPr>
          <a:xfrm>
            <a:off x="3924360" y="371628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Elipsa 7"/>
          <p:cNvSpPr/>
          <p:nvPr/>
        </p:nvSpPr>
        <p:spPr>
          <a:xfrm>
            <a:off x="4716360" y="350028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ipsa 8"/>
          <p:cNvSpPr/>
          <p:nvPr/>
        </p:nvSpPr>
        <p:spPr>
          <a:xfrm>
            <a:off x="4427640" y="2708280"/>
            <a:ext cx="73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lipsa 9"/>
          <p:cNvSpPr/>
          <p:nvPr/>
        </p:nvSpPr>
        <p:spPr>
          <a:xfrm>
            <a:off x="5076720" y="4076640"/>
            <a:ext cx="7164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ipsa 10"/>
          <p:cNvSpPr/>
          <p:nvPr/>
        </p:nvSpPr>
        <p:spPr>
          <a:xfrm>
            <a:off x="5148360" y="3068640"/>
            <a:ext cx="712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ole tekstowe 19"/>
          <p:cNvSpPr/>
          <p:nvPr/>
        </p:nvSpPr>
        <p:spPr>
          <a:xfrm>
            <a:off x="378252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ole tekstowe 20"/>
          <p:cNvSpPr/>
          <p:nvPr/>
        </p:nvSpPr>
        <p:spPr>
          <a:xfrm>
            <a:off x="450324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ole tekstowe 21"/>
          <p:cNvSpPr/>
          <p:nvPr/>
        </p:nvSpPr>
        <p:spPr>
          <a:xfrm>
            <a:off x="4358880" y="234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ole tekstowe 22"/>
          <p:cNvSpPr/>
          <p:nvPr/>
        </p:nvSpPr>
        <p:spPr>
          <a:xfrm>
            <a:off x="5150880" y="270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ole tekstowe 23"/>
          <p:cNvSpPr/>
          <p:nvPr/>
        </p:nvSpPr>
        <p:spPr>
          <a:xfrm>
            <a:off x="51505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Wniosk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dcinki symetryczne do siebie względem punktu mają jednakową długość i są równoległ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Symetryczne kąty mają jednakowe mia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 symetryczne do siebie względem punktu są przystając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zoom dir="ou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mysły zadań zostały zaczerpnięt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z podręcznika do 1 klasy gimnazjum „Matematyka z plusem”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572314"/>
                </a:solidFill>
                <a:latin typeface="Book Antiqua"/>
              </a:rPr>
              <a:t>Czy istnieje pewna prosta względem , której elementy na rysunku są symetryczn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4809600"/>
            <a:ext cx="810108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Elementy na rysunku wydają się symetryczne, jednak nie jest to symetria względem żadnej prostej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634160" cy="352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530064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Połączmy odcinkami odpowiadające sobie punkty..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319880" cy="3384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?.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4723920"/>
            <a:ext cx="810108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Zauważmy, że odcinki te przecinają się w jednym punkci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95440" indent="-514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 przecięcia się odcinków jest środkiem każdego z ni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7321680" cy="3382920"/>
          </a:xfrm>
          <a:prstGeom prst="rect">
            <a:avLst/>
          </a:prstGeom>
          <a:ln w="0">
            <a:noFill/>
          </a:ln>
        </p:spPr>
      </p:pic>
      <p:sp>
        <p:nvSpPr>
          <p:cNvPr id="330" name="Łącznik prosty 5"/>
          <p:cNvSpPr/>
          <p:nvPr/>
        </p:nvSpPr>
        <p:spPr>
          <a:xfrm flipV="1">
            <a:off x="3059280" y="1915920"/>
            <a:ext cx="3816360" cy="2160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Łącznik prosty 7"/>
          <p:cNvSpPr/>
          <p:nvPr/>
        </p:nvSpPr>
        <p:spPr>
          <a:xfrm>
            <a:off x="2627280" y="2924280"/>
            <a:ext cx="468144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Łącznik prosty 9"/>
          <p:cNvSpPr/>
          <p:nvPr/>
        </p:nvSpPr>
        <p:spPr>
          <a:xfrm flipH="1">
            <a:off x="3276360" y="1700280"/>
            <a:ext cx="338292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Łącznik prosty 18"/>
          <p:cNvSpPr/>
          <p:nvPr/>
        </p:nvSpPr>
        <p:spPr>
          <a:xfrm flipV="1">
            <a:off x="2916360" y="2565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a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42560" y="4868640"/>
            <a:ext cx="81010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O takich figurach mówimy, że są do siebie symetryczne względem punktu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7321680" cy="3381480"/>
          </a:xfrm>
          <a:prstGeom prst="rect">
            <a:avLst/>
          </a:prstGeom>
          <a:ln w="0">
            <a:noFill/>
          </a:ln>
        </p:spPr>
      </p:pic>
      <p:sp>
        <p:nvSpPr>
          <p:cNvPr id="337" name="Łącznik prosty 9"/>
          <p:cNvSpPr/>
          <p:nvPr/>
        </p:nvSpPr>
        <p:spPr>
          <a:xfrm>
            <a:off x="2771640" y="2708280"/>
            <a:ext cx="4680000" cy="144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Łącznik prosty 11"/>
          <p:cNvSpPr/>
          <p:nvPr/>
        </p:nvSpPr>
        <p:spPr>
          <a:xfrm flipH="1">
            <a:off x="3419280" y="1484280"/>
            <a:ext cx="3384360" cy="25923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4"/>
          <p:cNvSpPr/>
          <p:nvPr/>
        </p:nvSpPr>
        <p:spPr>
          <a:xfrm flipV="1">
            <a:off x="3059280" y="2349000"/>
            <a:ext cx="4176720" cy="8636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971280" y="4652640"/>
            <a:ext cx="81723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unkty A i A’ są symetryczne względem punktu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, jeżeli punkt </a:t>
            </a:r>
            <a:r>
              <a:rPr b="0" lang="pl-PL" sz="2800" spc="-1" strike="noStrike">
                <a:solidFill>
                  <a:srgbClr val="cc0000"/>
                </a:solidFill>
                <a:latin typeface="Book Antiqua"/>
              </a:rPr>
              <a:t>S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 jest środkiem odcinka łączącego te punk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Łącznik prosty 10"/>
          <p:cNvSpPr/>
          <p:nvPr/>
        </p:nvSpPr>
        <p:spPr>
          <a:xfrm>
            <a:off x="1476360" y="1773360"/>
            <a:ext cx="6696000" cy="100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4"/>
          <p:cNvSpPr/>
          <p:nvPr/>
        </p:nvSpPr>
        <p:spPr>
          <a:xfrm flipV="1">
            <a:off x="2195640" y="1843920"/>
            <a:ext cx="14436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5"/>
          <p:cNvSpPr/>
          <p:nvPr/>
        </p:nvSpPr>
        <p:spPr>
          <a:xfrm flipV="1">
            <a:off x="4643280" y="2204280"/>
            <a:ext cx="144720" cy="144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6"/>
          <p:cNvSpPr/>
          <p:nvPr/>
        </p:nvSpPr>
        <p:spPr>
          <a:xfrm flipV="1">
            <a:off x="7093080" y="2564640"/>
            <a:ext cx="142920" cy="1429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Łącznik prosty ze strzałką 17"/>
          <p:cNvCxnSpPr>
            <a:stCxn id="342" idx="7"/>
            <a:endCxn id="343" idx="1"/>
          </p:cNvCxnSpPr>
          <p:nvPr/>
        </p:nvCxnSpPr>
        <p:spPr>
          <a:xfrm>
            <a:off x="2319120" y="1968120"/>
            <a:ext cx="2345040" cy="36108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46" name="Łącznik prosty ze strzałką 19"/>
          <p:cNvCxnSpPr>
            <a:stCxn id="343" idx="7"/>
            <a:endCxn id="344" idx="1"/>
          </p:cNvCxnSpPr>
          <p:nvPr/>
        </p:nvCxnSpPr>
        <p:spPr>
          <a:xfrm>
            <a:off x="4767120" y="2328480"/>
            <a:ext cx="2347200" cy="359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47" name="pole tekstowe 27"/>
          <p:cNvSpPr/>
          <p:nvPr/>
        </p:nvSpPr>
        <p:spPr>
          <a:xfrm>
            <a:off x="212400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8"/>
          <p:cNvSpPr/>
          <p:nvPr/>
        </p:nvSpPr>
        <p:spPr>
          <a:xfrm>
            <a:off x="7093080" y="21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ole tekstowe 29"/>
          <p:cNvSpPr/>
          <p:nvPr/>
        </p:nvSpPr>
        <p:spPr>
          <a:xfrm>
            <a:off x="4500720" y="17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00"/>
                </a:solidFill>
                <a:latin typeface="Book Antiqu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8487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punkt A’ symetryczny do punktu A względem punktu S, wystarczy narysować półprostą AS i znaleźć na niej punkt A’ taki, że |AS|=|A’S|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Elipsa 8"/>
          <p:cNvSpPr/>
          <p:nvPr/>
        </p:nvSpPr>
        <p:spPr>
          <a:xfrm>
            <a:off x="2916360" y="4365720"/>
            <a:ext cx="712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lipsa 9"/>
          <p:cNvSpPr/>
          <p:nvPr/>
        </p:nvSpPr>
        <p:spPr>
          <a:xfrm>
            <a:off x="4140360" y="4581360"/>
            <a:ext cx="7128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Elipsa 10"/>
          <p:cNvSpPr/>
          <p:nvPr/>
        </p:nvSpPr>
        <p:spPr>
          <a:xfrm>
            <a:off x="5364000" y="4797360"/>
            <a:ext cx="7164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12"/>
          <p:cNvSpPr/>
          <p:nvPr/>
        </p:nvSpPr>
        <p:spPr>
          <a:xfrm>
            <a:off x="2987640" y="4437000"/>
            <a:ext cx="4238640" cy="658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lipsa 13"/>
          <p:cNvSpPr/>
          <p:nvPr/>
        </p:nvSpPr>
        <p:spPr>
          <a:xfrm>
            <a:off x="2916360" y="3357720"/>
            <a:ext cx="2519280" cy="251928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ole tekstowe 14"/>
          <p:cNvSpPr/>
          <p:nvPr/>
        </p:nvSpPr>
        <p:spPr>
          <a:xfrm>
            <a:off x="277416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5"/>
          <p:cNvSpPr/>
          <p:nvPr/>
        </p:nvSpPr>
        <p:spPr>
          <a:xfrm>
            <a:off x="3926880" y="414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16"/>
          <p:cNvSpPr/>
          <p:nvPr/>
        </p:nvSpPr>
        <p:spPr>
          <a:xfrm>
            <a:off x="543528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ole tekstowe 1"/>
          <p:cNvSpPr/>
          <p:nvPr/>
        </p:nvSpPr>
        <p:spPr>
          <a:xfrm>
            <a:off x="1187280" y="90792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Aby znaleźć figurę symetryczną do wielokąta względem danego punktu S, wystarczy znaleźć punkty symetryczne do wierzchołków wielokąta , po czym należy odpowiednio połączyć znalezione punk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rójkąt równoramienny 2"/>
          <p:cNvSpPr/>
          <p:nvPr/>
        </p:nvSpPr>
        <p:spPr>
          <a:xfrm rot="637200">
            <a:off x="1577880" y="3610080"/>
            <a:ext cx="2087640" cy="129672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lipsa 3"/>
          <p:cNvSpPr/>
          <p:nvPr/>
        </p:nvSpPr>
        <p:spPr>
          <a:xfrm>
            <a:off x="5003640" y="4365720"/>
            <a:ext cx="73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Łącznik prosty 5"/>
          <p:cNvSpPr/>
          <p:nvPr/>
        </p:nvSpPr>
        <p:spPr>
          <a:xfrm flipV="1">
            <a:off x="3527280" y="3662280"/>
            <a:ext cx="3140280" cy="14256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Łącznik prosty 7"/>
          <p:cNvSpPr/>
          <p:nvPr/>
        </p:nvSpPr>
        <p:spPr>
          <a:xfrm>
            <a:off x="2741760" y="3621240"/>
            <a:ext cx="4692600" cy="1517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Łącznik prosty 9"/>
          <p:cNvSpPr/>
          <p:nvPr/>
        </p:nvSpPr>
        <p:spPr>
          <a:xfrm flipV="1">
            <a:off x="1476360" y="4076640"/>
            <a:ext cx="7209000" cy="625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rójkąt równoramienny 10"/>
          <p:cNvSpPr/>
          <p:nvPr/>
        </p:nvSpPr>
        <p:spPr>
          <a:xfrm rot="11486400">
            <a:off x="6517800" y="3855240"/>
            <a:ext cx="2087640" cy="129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ole tekstowe 24"/>
          <p:cNvSpPr/>
          <p:nvPr/>
        </p:nvSpPr>
        <p:spPr>
          <a:xfrm>
            <a:off x="118980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ole tekstowe 25"/>
          <p:cNvSpPr/>
          <p:nvPr/>
        </p:nvSpPr>
        <p:spPr>
          <a:xfrm>
            <a:off x="2558520" y="321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ole tekstowe 26"/>
          <p:cNvSpPr/>
          <p:nvPr/>
        </p:nvSpPr>
        <p:spPr>
          <a:xfrm>
            <a:off x="3422880" y="508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ole tekstowe 27"/>
          <p:cNvSpPr/>
          <p:nvPr/>
        </p:nvSpPr>
        <p:spPr>
          <a:xfrm>
            <a:off x="486252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28"/>
          <p:cNvSpPr/>
          <p:nvPr/>
        </p:nvSpPr>
        <p:spPr>
          <a:xfrm>
            <a:off x="8604000" y="3645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ole tekstowe 29"/>
          <p:cNvSpPr/>
          <p:nvPr/>
        </p:nvSpPr>
        <p:spPr>
          <a:xfrm>
            <a:off x="7455240" y="5157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ole tekstowe 30"/>
          <p:cNvSpPr/>
          <p:nvPr/>
        </p:nvSpPr>
        <p:spPr>
          <a:xfrm>
            <a:off x="6519240" y="3284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21:30:16Z</dcterms:created>
  <dc:creator>Batonixxx</dc:creator>
  <dc:description/>
  <dc:language>en-US</dc:language>
  <cp:lastModifiedBy>Ania</cp:lastModifiedBy>
  <dcterms:modified xsi:type="dcterms:W3CDTF">2013-06-11T22:03:13Z</dcterms:modified>
  <cp:revision>101</cp:revision>
  <dc:subject/>
  <dc:title>Symetria względem punktu</dc:title>
</cp:coreProperties>
</file>